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0679095"/>
        <c:axId val="89002450"/>
      </c:barChart>
      <c:catAx>
        <c:axId val="6067909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002450"/>
        <c:crosses val="autoZero"/>
        <c:auto val="1"/>
        <c:lblAlgn val="ctr"/>
        <c:lblOffset val="100"/>
        <c:noMultiLvlLbl val="0"/>
      </c:catAx>
      <c:valAx>
        <c:axId val="8900245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67909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626D2-86B9-41C3-8FF4-DF3CAEB71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D3FBE-8EEE-42AC-9A88-F11A1FA89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065AD-6ED4-4167-8F9D-0440BD2C0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56FE3-C0A7-481D-A92F-487C64C63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B6EB2-8F87-48F1-B810-81EFC4A4F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16E17-624C-44C9-BBAE-0F38A7E61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A6D25-D84B-4DC1-A9C7-3FDFDF21E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69253-B811-4740-9D1D-3774AA66A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DC360-245A-4B84-BF4E-595B94E00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E89AE-3F06-4DDB-9322-4A75D6F30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76D3B-1C51-4687-921D-F03830E4E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D5143-9273-4282-8D02-7E3779556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784FA9-3AC6-48D9-AD0F-945A538D8ED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