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18568"/>
        <c:axId val="33408865"/>
      </c:barChart>
      <c:catAx>
        <c:axId val="17018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08865"/>
        <c:crosses val="autoZero"/>
        <c:auto val="1"/>
        <c:lblAlgn val="ctr"/>
        <c:lblOffset val="100"/>
        <c:noMultiLvlLbl val="0"/>
      </c:catAx>
      <c:valAx>
        <c:axId val="33408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18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F45-47ED-48DC-AABA-B95AD44F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D3E-A260-4082-A9A0-4E5BD59E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7C3-3F54-42AF-9309-5882BF28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332-B9FB-4C0A-AE75-0A8C1FD5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201-6C84-4FB5-B6F4-88545D73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BBE-0EA1-491B-AC0A-F7C48A29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736-8F25-457E-99C2-DE887075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7A2-02A8-4EE8-81CE-14ED2DDE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369-9CB8-4AA8-B424-015D0FA2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573-E7E4-46D7-8D93-3C21C481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5AB-9532-44D8-93E2-F830C2A4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FB4-4068-4BC7-B074-42BA176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E0E68-FE80-468E-8025-9153DC2D8D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