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584237"/>
        <c:axId val="82523576"/>
      </c:barChart>
      <c:catAx>
        <c:axId val="835842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523576"/>
        <c:crosses val="autoZero"/>
        <c:auto val="1"/>
        <c:lblAlgn val="ctr"/>
        <c:lblOffset val="100"/>
        <c:noMultiLvlLbl val="0"/>
      </c:catAx>
      <c:valAx>
        <c:axId val="825235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5842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D7EC-DD9A-40A4-B19D-17C107579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A1D1-0AA4-4EA9-B233-F4FA27FB3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1AC1-F3BF-4798-AB17-726BE30E6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CCDF-A753-4C53-AD7F-40E33CC15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0A63-D843-4491-882D-31D1FDF07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2022-0D4F-4F69-9E68-4AE1D9F16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EC92-88BD-41A2-8799-6201413E3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0200-923F-44E5-BC4C-59373D21B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F752-DD35-4A3E-B210-3B3C76EE4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E849-F1B0-4A93-B83F-EAD92BD5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A8D9-DFE5-4372-88DA-ECC5D133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C75C-1ECB-49FE-9566-0C02F6B5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9C8E0F-D85C-4316-9921-AA42EB14684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