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20154"/>
        <c:axId val="66653332"/>
      </c:barChart>
      <c:catAx>
        <c:axId val="86220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3332"/>
        <c:crosses val="autoZero"/>
        <c:auto val="1"/>
        <c:lblAlgn val="ctr"/>
        <c:lblOffset val="100"/>
        <c:noMultiLvlLbl val="0"/>
      </c:catAx>
      <c:valAx>
        <c:axId val="66653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20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FBD-38E4-466A-B3BB-3BB7E093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9FB-13CF-48AE-95E4-4DFBE4F0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64B-7D18-4DF4-9BC3-99E1AB5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868-1700-4694-AD64-DD3C6F43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99A-7342-4729-8F1B-C29B9217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BA8-02AE-4F2D-8F82-B42DBD4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AD1-64BC-401E-94F1-8463734A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62C-BC42-4626-9DE5-3A791D25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160-0A38-4CA6-8812-C20701C7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9AE-33FD-43EC-A212-44070C8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31F-73A4-47FD-BC79-CF20EA4F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29A-4975-4187-A993-A24DC61D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F6C0-D91B-4E1A-AF40-550F7452EA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