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6804"/>
        <c:axId val="7567278"/>
      </c:barChart>
      <c:catAx>
        <c:axId val="2546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7278"/>
        <c:crosses val="autoZero"/>
        <c:auto val="1"/>
        <c:lblAlgn val="ctr"/>
        <c:lblOffset val="100"/>
        <c:noMultiLvlLbl val="0"/>
      </c:catAx>
      <c:valAx>
        <c:axId val="7567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6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E35-AB5D-46FD-B358-C1B53287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E36-DFBA-4444-9571-3E76612E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581-3298-40BF-8FE2-6875083D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9F5-D7F2-4C31-99BA-7123B9FA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677-682F-4F0F-BBD0-8D766E08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162-9C7B-4156-94C9-53067F6C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E27-172A-487D-9D15-732CCC7A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323-5C58-4691-9449-FB1001C0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68E-FE1F-4345-AD71-FA25952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E33-BCC8-4868-BC0E-CC05ACB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E6D-7572-4297-AE21-58A47AF8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299-1A12-4F38-AF4F-5600A6E6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36848-37DC-49B2-A50E-D153645BCA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