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2162"/>
        <c:axId val="76157372"/>
      </c:barChart>
      <c:catAx>
        <c:axId val="6462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57372"/>
        <c:crosses val="autoZero"/>
        <c:auto val="1"/>
        <c:lblAlgn val="ctr"/>
        <c:lblOffset val="100"/>
        <c:noMultiLvlLbl val="0"/>
      </c:catAx>
      <c:valAx>
        <c:axId val="76157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2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465-8645-45FC-B1D6-98D3F2CF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15F-405E-42C5-B4C4-3F8D2D6D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343-265E-4271-B633-44C649B5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918-AEB6-465D-A846-4C350EF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BAE-F673-48FD-80DB-7E722C58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FF3-4597-429D-B00B-80B592B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DE0-6D11-48B2-90E6-EFEE56E3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DDC-1BCA-438F-8150-51DF212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A48-12A9-4C3D-87B2-E1741A28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74F-14F5-4566-8DD8-FF641AA4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701-4360-40ED-A9BE-9257BEE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D93-5C9F-4E83-9BEE-55F3721D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93A57-F74E-489F-BE0F-6B43919764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